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9442-B0E7-45B6-BD62-0E37AD25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6445-FF96-4BBE-864E-C11F37C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6276-8977-4300-876F-A2F84365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BCAA-A97E-4FDA-A668-0D08771B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0038-2F72-4102-8384-4DDFD2F5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17612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4300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2252-8DD3-48D8-AEBA-0015E8A1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5DD2-ED0A-4A51-8F93-8217FD4D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201C-43AB-432F-9AB6-F8C9FE42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ABFA-B1FA-4E0A-8C5A-9D8C8FDA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A426-084C-498C-B76B-9CBA0B6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300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7510-5F08-4C11-9670-EB3BC81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7612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300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3BFC-A2EB-4515-8D8A-04094264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61DE-E5BA-4085-97FE-06915C82B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7803720" y="1045440"/>
                <a:ext cx="19800" cy="313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7814520" y="1111320"/>
                <a:ext cx="5832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6870960" y="1182960"/>
                <a:ext cx="447120" cy="53064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6670440" y="1062720"/>
                <a:ext cx="110160" cy="17676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6125040" y="752760"/>
                <a:ext cx="18828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6309000" y="686880"/>
                <a:ext cx="39240" cy="424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6351840" y="626040"/>
                <a:ext cx="110160" cy="687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6348600" y="715320"/>
                <a:ext cx="95040" cy="5292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6228000" y="925200"/>
                <a:ext cx="183600" cy="1468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6522120" y="704160"/>
                <a:ext cx="3168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6438960" y="820080"/>
                <a:ext cx="119160" cy="1472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6564600" y="914040"/>
                <a:ext cx="6264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6644160" y="885960"/>
                <a:ext cx="26784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6665760" y="621360"/>
                <a:ext cx="65880" cy="892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6870960" y="636840"/>
                <a:ext cx="1148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6557040" y="71532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6319440" y="825120"/>
                <a:ext cx="29160" cy="90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6892560" y="1058040"/>
                <a:ext cx="96480" cy="7164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6897240" y="172332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6961320" y="1657800"/>
                <a:ext cx="2916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Text Box 14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Freeform 381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AutoShape 384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11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13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347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aca1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faca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5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6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7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18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9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20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5a4cb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cae1"/>
                  </a:gs>
                  <a:gs pos="100000">
                    <a:srgbClr val="1481b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2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3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24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25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26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27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c9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8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68c"/>
                  </a:gs>
                  <a:gs pos="100000">
                    <a:srgbClr val="baaa1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29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30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6" name="Oval 35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7" name="Oval 36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Oval 37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Oval 38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Oval 40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42" name="Group 41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43" name="Oval 42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4" name="Oval 43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47" name="Text Box 46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48" name="Oval 47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9" name="Oval 48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0" name="Oval 49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1" name="Oval 50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2" name="Oval 51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3" name="Text Box 52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4" name="Oval 53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5" name="Oval 54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6" name="Oval 55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7" name="Oval 56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8" name="Oval 57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63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65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67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69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70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f480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474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75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6895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77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78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0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82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83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8b6d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87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88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55d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92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93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7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6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c888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98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499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d3b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0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2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502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5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3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3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04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da0c9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7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8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9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0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1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2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4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2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2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2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0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4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5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6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7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9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0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43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5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6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47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48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49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0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2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5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6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60" name="Rectangle 4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1" name="Rectangle 5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62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63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64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67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0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1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4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75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76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7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8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9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1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2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3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5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87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8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89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92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3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6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97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98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99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602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3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5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6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7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8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9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0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611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2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3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4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6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7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0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21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3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4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5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6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7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28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29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0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1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32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6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7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8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39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41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42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3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4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5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46" name="AutoShape 90"/>
            <p:cNvCxnSpPr>
              <a:stCxn id="642" idx="3"/>
              <a:endCxn id="643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91"/>
            <p:cNvCxnSpPr>
              <a:stCxn id="643" idx="3"/>
              <a:endCxn id="644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52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c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3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6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4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55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6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7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58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75f3f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59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60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1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2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64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5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66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75f3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64f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c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93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4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8aed1"/>
              </a:gs>
              <a:gs pos="100000">
                <a:srgbClr val="1481b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96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97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98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99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66c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2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704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705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06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7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09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710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711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a3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712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13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715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716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717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18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2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21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24" name="Group 21"/>
          <p:cNvGrpSpPr/>
          <p:nvPr/>
        </p:nvGrpSpPr>
        <p:grpSpPr>
          <a:xfrm>
            <a:off x="1249560" y="1455120"/>
            <a:ext cx="6599160" cy="4675680"/>
            <a:chOff x="1249560" y="1455120"/>
            <a:chExt cx="6599160" cy="4675680"/>
          </a:xfrm>
        </p:grpSpPr>
        <p:sp>
          <p:nvSpPr>
            <p:cNvPr id="725" name="Oval 3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7" name="Oval 5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8" name="Arc 6"/>
            <p:cNvSpPr/>
            <p:nvPr/>
          </p:nvSpPr>
          <p:spPr>
            <a:xfrm rot="20601600">
              <a:off x="42735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aafd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9" name="Arc 7"/>
            <p:cNvSpPr/>
            <p:nvPr/>
          </p:nvSpPr>
          <p:spPr>
            <a:xfrm flipH="1" rot="20602200">
              <a:off x="1861200" y="3954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34739"/>
                </a:gs>
                <a:gs pos="100000">
                  <a:srgbClr val="32665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0" name="Arc 8"/>
            <p:cNvSpPr/>
            <p:nvPr/>
          </p:nvSpPr>
          <p:spPr>
            <a:xfrm rot="20601600">
              <a:off x="28702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9bcae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1" name="Arc 9"/>
            <p:cNvSpPr/>
            <p:nvPr/>
          </p:nvSpPr>
          <p:spPr>
            <a:xfrm flipH="1" rot="20602200">
              <a:off x="15181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aa12"/>
                </a:gs>
                <a:gs pos="100000">
                  <a:srgbClr val="564f0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2" name="Freeform 10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3" name="Arc 11"/>
            <p:cNvSpPr/>
            <p:nvPr/>
          </p:nvSpPr>
          <p:spPr>
            <a:xfrm rot="20539200">
              <a:off x="46562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100000">
                  <a:srgbClr val="99ce88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9c9"/>
                </a:gs>
                <a:gs pos="100000">
                  <a:srgbClr val="99ce8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5" name="Oval 13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6" name="Text Box 14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7" name="Text Box 15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8" name="Text Box 16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9" name="Text Box 17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0" name="Text Box 18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2a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2" name="Oval 20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0" name="AutoShape 71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AutoShape 76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Text Box 78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AutoShape 81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4f5"/>
              </a:gs>
              <a:gs pos="100000">
                <a:srgbClr val="baccce"/>
              </a:gs>
            </a:gsLst>
            <a:lin ang="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Text Box 83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AutoShape 90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edcd"/>
              </a:gs>
              <a:gs pos="100000">
                <a:srgbClr val="baaa12"/>
              </a:gs>
            </a:gsLst>
            <a:lin ang="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AutoShape 92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5e6"/>
              </a:gs>
              <a:gs pos="100000">
                <a:srgbClr val="99ce88"/>
              </a:gs>
            </a:gsLst>
            <a:lin ang="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aaa12"/>
              </a:gs>
              <a:gs pos="100000">
                <a:srgbClr val="d3c9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9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9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1481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64f08"/>
                </a:gs>
                <a:gs pos="100000">
                  <a:srgbClr val="baaa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0"/>
                  </a:srgbClr>
                </a:gs>
                <a:gs pos="100000">
                  <a:srgbClr val="e7e1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3870e"/>
                </a:gs>
                <a:gs pos="100000">
                  <a:srgbClr val="baaa1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aa1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2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304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af0f0">
                    <a:alpha val="36078"/>
                  </a:srgbClr>
                </a:gs>
                <a:gs pos="100000">
                  <a:srgbClr val="baccce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72d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1020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d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9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547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22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23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7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65e5f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65e5f">
                    <a:alpha val="12156"/>
                  </a:srgbClr>
                </a:gs>
                <a:gs pos="100000">
                  <a:srgbClr val="bacc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3dfe0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1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2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3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3dfe0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8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349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1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481b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0b4664"/>
                  </a:gs>
                  <a:gs pos="50000">
                    <a:srgbClr val="1481b8"/>
                  </a:gs>
                  <a:gs pos="100000">
                    <a:srgbClr val="0b46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8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6"/>
                </a:gs>
                <a:gs pos="50000">
                  <a:srgbClr val="326652"/>
                </a:gs>
                <a:gs pos="100000">
                  <a:srgbClr val="172f2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5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8" name="Freeform 17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4f08"/>
                </a:gs>
                <a:gs pos="50000">
                  <a:srgbClr val="baaa12"/>
                </a:gs>
                <a:gs pos="100000">
                  <a:srgbClr val="564f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c55"/>
                </a:gs>
                <a:gs pos="50000">
                  <a:srgbClr val="1481b8"/>
                </a:gs>
                <a:gs pos="100000">
                  <a:srgbClr val="093c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f3f"/>
                </a:gs>
                <a:gs pos="50000">
                  <a:srgbClr val="99ce88"/>
                </a:gs>
                <a:gs pos="100000">
                  <a:srgbClr val="475f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6998c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2a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6" name="Rectangle 25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77b0d"/>
                </a:gs>
                <a:gs pos="50000">
                  <a:srgbClr val="baaa12"/>
                </a:gs>
                <a:gs pos="100000">
                  <a:srgbClr val="877b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7" name="Rectangle 26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f5e85"/>
                </a:gs>
                <a:gs pos="50000">
                  <a:srgbClr val="1481b8"/>
                </a:gs>
                <a:gs pos="100000">
                  <a:srgbClr val="0f5e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8" name="Freeform 27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f9563"/>
                </a:gs>
                <a:gs pos="50000">
                  <a:srgbClr val="99ce88"/>
                </a:gs>
                <a:gs pos="100000">
                  <a:srgbClr val="6f95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00" name="Rectangle 29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bb5ab"/>
                </a:gs>
                <a:gs pos="100000">
                  <a:srgbClr val="3266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6095880" y="661356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3266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4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fc45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ba7c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0:45Z</dcterms:created>
  <dc:creator>Admin</dc:creator>
  <dc:description/>
  <dc:language>en-US</dc:language>
  <cp:lastModifiedBy>Anh Hung Pro</cp:lastModifiedBy>
  <dcterms:modified xsi:type="dcterms:W3CDTF">2016-09-08T14:42:27Z</dcterms:modified>
  <cp:revision>2</cp:revision>
  <dc:subject/>
  <dc:title>PowerPoint  Template</dc:title>
</cp:coreProperties>
</file>